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5EF5-73AD-48B0-9375-BCCACC1FCE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Metals, the Lanthanides and the An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Metals, the Lanthanides and the An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talyst is a substance that can make something happen faster but is not changed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ansition elements, such as nickel, zinc, and cobalt,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talyst is a substance that can make something happen faster but is not changed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ansition elements, such as nickel, zinc, and cobalt,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series of inner transition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ries, from cerium to lutetium, is called the lantha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eries of elements, from thorium to lawrencium, is called the acti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series of inner transition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ries, from cerium to lutetium, is called the lantha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eries of elements, from thorium to lawrencium, is called the acti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 are soft metals that can be cut with a kn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are so similar that they are hard to separate when they occur in the same ore, which they often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name rare earth, the lanthanides are not as rare as originally thou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um makes up 50 percent of an alloy called misch (MIHSH)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nts in lighters are made from misch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 are soft metals that can be cut with a kn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are so similar that they are hard to separate when they occur in the same ore, which they often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name rare earth, the lanthanides are not as rare as originally thou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um makes up 50 percent of an alloy called misch (MIHSH)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nts in lighters are made from misch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actinides are radio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toms of radioactive elements are unstable and decay to form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ium, protactinium, and uranium are the only actinides that now are found naturally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ium is found in Earth’s crust because its half-life is long—4.5 billion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actinides are radio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toms of radioactive elements are unstable and decay to form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ium, protactinium, and uranium are the only actinides that now are found naturally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ium is found in Earth’s crust because its half-life is long—4.5 billion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actinides are synthetic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tic elements are made in laboratories and nuclear re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nium is used as a fuel in nuclear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ium is used in some home smoke dete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um-252 is used to kill canc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actinides are synthetic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tic elements are made in laboratories and nuclear re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nium is used as a fuel in nuclear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ium is used in some home smoke dete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um-252 is used to kill canc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s have been using amalgam for over 150 years to fill cavities in decayed tee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gam, a mixture of silver, copper, tin, and mercury, is the familiar “silver filling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s have been using amalgam for over 150 years to fill cavities in decayed tee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gam, a mixture of silver, copper, tin, and mercury, is the familiar “silver filling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elements are known as “the iron triad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 consists of iron, cobalt, and nickel. They are called this because of their similar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elements are known as “the iron triad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 consists of iron, cobalt, and nickel. They are called this because of their similar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group consists of ruthenium, rhodium, palladium, osmium, iridium, and platin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 is the platinum group. These elements all have similar properties, which is why they are group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group consists of ruthenium, rhodium, palladium, osmium, iridium, and platin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 is the platinum group. These elements all have similar properties, which is why they are group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s 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3-12 are called the transition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m are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ny period from Group 3 through 12, the properties of the elements change less noticeably than they do across a period of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elements are found combined with other elements in 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s 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3-12 are called the transition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m are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ny period from Group 3 through 12, the properties of the elements change less noticeably than they do across a period of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elements are found combined with other elements in 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ost notable about the nuclei of the actin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ctinides are unstable. All the actinides are radioactive, which means they decay to form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ost notable about the nuclei of the actin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ctinides are unstable. All the actinides are radioactive, which means they decay to form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, among others, have magnetic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, among others, have magnetic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magnets are made from an alloy of nickel, cobalt, and alumin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 is used in batteries along with cadm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a necessary part of hemoglobin, the substance that transports oxygen in the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lso is mixed with other metals and with carbon to create a variety of steels with different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magnets are made from an alloy of nickel, cobalt, and alumin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 is used in batteries along with cadm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a necessary part of hemoglobin, the substance that transports oxygen in the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lso is mixed with other metals and with carbon to create a variety of steels with different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metals have higher melting points than the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metals have higher melting points than the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 has the highest melting point of any metal (3,410°C) and will not melt when a current passes throug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 has the highest melting point of any metal (3,410°C) and will not melt when a current passes throug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which has the lowest melting point of any metal (–39°C), is used in thermometers and in bar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is the only metal that is a liquid at room temper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ny of the heavy metals, mercury is poisonous to living be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which has the lowest melting point of any metal (–39°C), is used in thermometers and in bar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is the only metal that is a liquid at room temper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ny of the heavy metals, mercury is poisonous to living be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’s name comes from the Greek word for color, chr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transition elements combine to form substances with brilliant col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’s name comes from the Greek word for color, chr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transition elements combine to form substances with brilliant col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nium, rhodium, palladium, osmium, iridium, and platinum are sometimes called the platinum group because they have similar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combine as easily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y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nium, rhodium, palladium, osmium, iridium, and platinum are sometimes called the platinum group because they have similar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combine as easily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y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BAF-CA5C-4C48-B307-3F93713C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9E7-6E96-463B-9127-FE5BC9C6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667-3799-4838-ADEB-0F8BB289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1A0-DF17-4286-A564-02198EFB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5F1E-8C57-4E18-B27D-C6306DB4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33B-837B-4E36-9AB2-F3DBCD7B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77A-C799-4A8D-ABA3-EC279646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47FA-EF01-4754-A7DB-5EDE835F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07A7-9676-4F33-B1F9-EEE6ABF5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D55D-F861-471B-AFBA-25A00AD7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F03-BA39-4E93-8226-3EB43BA6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4AB9-BA46-472C-A9C7-61C9EDEC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10EB-EEA7-4336-AB18-DCEFA7C8D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ransition Metals, the Lanthanides and the Antin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3520" y="177480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taly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substance that can make something happen faster but is not changed it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3520" y="3679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transition elements, such as nickel, zinc, and cobalt, can be used as cataly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570320" y="685800"/>
            <a:ext cx="5362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ner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99960" y="1309680"/>
            <a:ext cx="8610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two series of inner transition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99960" y="1924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series, from cerium to lutetium,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nthani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9960" y="29844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econd series of elements, from thorium to lawrencium,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tini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im54"/>
          <p:cNvPicPr/>
          <p:nvPr/>
        </p:nvPicPr>
        <p:blipFill>
          <a:blip r:embed="rId1"/>
          <a:stretch/>
        </p:blipFill>
        <p:spPr>
          <a:xfrm>
            <a:off x="1676520" y="3986280"/>
            <a:ext cx="57909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69240" y="685800"/>
            <a:ext cx="3497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Lantha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33520" y="12193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nthanides are soft metals that can be cut with a kn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33520" y="21337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s are so similar that they are hard to separate when they occur in the same ore, which they often 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33520" y="3489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pite the name rare earth, the lanthanides are not as rare as originally thou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33520" y="4403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ium makes up 50 percent of an alloy called misch (MIHSH)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33520" y="53182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ints in lighters are made from misch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70320" y="685800"/>
            <a:ext cx="2885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cti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3520" y="13334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actinides are radioact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3520" y="193356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i of atoms of radioactive elements are unstable and decay to form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33520" y="29592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rium, protactinium, and uranium are the only actinides that now are found naturally on Ear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33520" y="4432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anium is found in Earth’s crust because its half-life is long—4.5 billion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570320" y="685800"/>
            <a:ext cx="2885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cti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13082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actinides are synthetic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33520" y="18828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ynthetic elemen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made in laboratories and nuclear rea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33520" y="2882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utonium is used as a fuel in nuclear power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33520" y="3886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ium is used in some home smoke dete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33520" y="48988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ifornium-252 is used to kill canc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81296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ists have been using amalgam for over 150 years to fill cavities in decayed tee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3520" y="3324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algam, a mixture of silver, copper, tin, and mercury, is the familiar “silver filling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1447920"/>
            <a:ext cx="8153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647 im59 dentist"/>
          <p:cNvPicPr/>
          <p:nvPr/>
        </p:nvPicPr>
        <p:blipFill>
          <a:blip r:embed="rId1"/>
          <a:stretch/>
        </p:blipFill>
        <p:spPr>
          <a:xfrm>
            <a:off x="3657600" y="2514600"/>
            <a:ext cx="50292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6"/>
          <p:cNvGrpSpPr/>
          <p:nvPr/>
        </p:nvGrpSpPr>
        <p:grpSpPr>
          <a:xfrm>
            <a:off x="533520" y="1449360"/>
            <a:ext cx="8153280" cy="2745000"/>
            <a:chOff x="533520" y="1449360"/>
            <a:chExt cx="8153280" cy="2745000"/>
          </a:xfrm>
        </p:grpSpPr>
        <p:sp>
          <p:nvSpPr>
            <p:cNvPr id="152" name="Text Box 7"/>
            <p:cNvSpPr/>
            <p:nvPr/>
          </p:nvSpPr>
          <p:spPr>
            <a:xfrm>
              <a:off x="533520" y="1449360"/>
              <a:ext cx="81532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oday dentists have alternatives to amalgam.  New composites, resins, and porcelains a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898560" y="2346480"/>
              <a:ext cx="283536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being used to repair decayed, broken, or missing teeth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three elements are known as “the iron triad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95440" y="409104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ron triad consists of iron, cobalt, and nickel. They are called this because of their similar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761480" y="34290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group consists of ruthenium, rhodium, palladium, osmium, iridium, and platin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95440" y="3962520"/>
            <a:ext cx="732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the platinum group. These elements all have similar properties, which is why they are group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76148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1040" y="685800"/>
            <a:ext cx="5106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Metals in the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25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3-12 are called the transition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3520" y="23464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f them are 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2938320"/>
            <a:ext cx="8001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ross any period from Group 3 through 12, the properties of the elements change less noticeably than they do across a period of representativ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33520" y="48290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transition elements are found combined with other elements in 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most notable about the nuclei of the actini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95440" y="396252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i of actinides are unstable. All the actinides are radioactive, which means they decay to form 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76148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69960" y="754200"/>
            <a:ext cx="315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Iron Tri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115080" y="6840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69880" y="4665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3520" y="3328920"/>
            <a:ext cx="327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, among others, have magnetic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m47"/>
          <p:cNvPicPr/>
          <p:nvPr/>
        </p:nvPicPr>
        <p:blipFill>
          <a:blip r:embed="rId1"/>
          <a:stretch/>
        </p:blipFill>
        <p:spPr>
          <a:xfrm>
            <a:off x="3809880" y="2397240"/>
            <a:ext cx="4794480" cy="3622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7"/>
          <p:cNvGrpSpPr/>
          <p:nvPr/>
        </p:nvGrpSpPr>
        <p:grpSpPr>
          <a:xfrm>
            <a:off x="533520" y="1316160"/>
            <a:ext cx="8381880" cy="1894320"/>
            <a:chOff x="533520" y="1316160"/>
            <a:chExt cx="8381880" cy="1894320"/>
          </a:xfrm>
        </p:grpSpPr>
        <p:sp>
          <p:nvSpPr>
            <p:cNvPr id="62" name="Text Box 8"/>
            <p:cNvSpPr/>
            <p:nvPr/>
          </p:nvSpPr>
          <p:spPr>
            <a:xfrm>
              <a:off x="533520" y="1316160"/>
              <a:ext cx="83818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ree elements in period 4—iron, cobalt, and nickel—have such similar properties that th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>
              <a:off x="863640" y="2141640"/>
              <a:ext cx="259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re known as the iron tria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69960" y="685800"/>
            <a:ext cx="315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Iron Tri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12700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ustrial magnets are made from an alloy of nickel, cobalt, and alumin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235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kel is used in batteries along with cadm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320976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is a necessary part of hemoglobin, the substance that transports oxygen in the bl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33520" y="417528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also is mixed with other metals and with carbon to create a variety of steels with different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3520" y="121932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transition metals have higher melting points than the representativ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im49"/>
          <p:cNvPicPr/>
          <p:nvPr/>
        </p:nvPicPr>
        <p:blipFill>
          <a:blip r:embed="rId1"/>
          <a:stretch/>
        </p:blipFill>
        <p:spPr>
          <a:xfrm>
            <a:off x="3300480" y="2695680"/>
            <a:ext cx="5025960" cy="317160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7"/>
          <p:cNvGrpSpPr/>
          <p:nvPr/>
        </p:nvGrpSpPr>
        <p:grpSpPr>
          <a:xfrm>
            <a:off x="533520" y="2133720"/>
            <a:ext cx="7848360" cy="1449720"/>
            <a:chOff x="533520" y="2133720"/>
            <a:chExt cx="7848360" cy="1449720"/>
          </a:xfrm>
        </p:grpSpPr>
        <p:sp>
          <p:nvSpPr>
            <p:cNvPr id="77" name="Text Box 8"/>
            <p:cNvSpPr/>
            <p:nvPr/>
          </p:nvSpPr>
          <p:spPr>
            <a:xfrm>
              <a:off x="533520" y="2133720"/>
              <a:ext cx="7848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filaments of lightbulbs are made o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892080" y="2514600"/>
              <a:ext cx="2460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ungsten, element 74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33520" y="1231920"/>
            <a:ext cx="8076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ngsten has the highest melting point of any metal (3,410°C) and will not melt when a current passes through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im49"/>
          <p:cNvPicPr/>
          <p:nvPr/>
        </p:nvPicPr>
        <p:blipFill>
          <a:blip r:embed="rId1"/>
          <a:stretch/>
        </p:blipFill>
        <p:spPr>
          <a:xfrm>
            <a:off x="3300480" y="2695680"/>
            <a:ext cx="502596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12193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cury, which has the lowest melting point of any metal (–39°C), is used in thermometers and in barome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3520" y="3984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cury is the only metal that is a liquid at room temperat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33520" y="49752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 many of the heavy metals, mercury is poisonous to living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im50 thermometer"/>
          <p:cNvPicPr/>
          <p:nvPr/>
        </p:nvPicPr>
        <p:blipFill>
          <a:blip r:embed="rId1"/>
          <a:stretch/>
        </p:blipFill>
        <p:spPr>
          <a:xfrm>
            <a:off x="2197080" y="2743200"/>
            <a:ext cx="47498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3520" y="143208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ium’s name comes from the Greek word for color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hro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3520" y="3432240"/>
            <a:ext cx="3657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other transition elements combine to form substances with brilliant col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im51 paints"/>
          <p:cNvPicPr/>
          <p:nvPr/>
        </p:nvPicPr>
        <p:blipFill>
          <a:blip r:embed="rId1"/>
          <a:stretch/>
        </p:blipFill>
        <p:spPr>
          <a:xfrm>
            <a:off x="4343400" y="1676520"/>
            <a:ext cx="42670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33520" y="150480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thenium, rhodium, palladium, osmium, iridium, and platinum are sometimes called the platinum group because they have similar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33520" y="357516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o not combine as easily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33520" y="47782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 result, they can be used as cataly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36:23Z</dcterms:created>
  <dc:creator>CIC1</dc:creator>
  <dc:description/>
  <dc:language>en-US</dc:language>
  <cp:lastModifiedBy>RomaK</cp:lastModifiedBy>
  <dcterms:modified xsi:type="dcterms:W3CDTF">2015-09-02T06:04:42Z</dcterms:modified>
  <cp:revision>6</cp:revision>
  <dc:subject/>
  <dc:title>The Transition Metals, the Lanthanides and the Antinides</dc:title>
</cp:coreProperties>
</file>